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2FF-4601-4715-A17E-35CF2E7C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240-D7BA-4FE5-838A-696B5BB1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49EF4-B817-498E-9749-EEE7F685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A0797-4A86-4199-9194-E144CFEC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3AF2B-BFC0-4BC6-88B3-0A8146A2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124BF-18B0-4C42-BCF2-DD72FD92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7D5B2-D22F-4817-90D0-F67AE883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ADE20-374A-438E-B2CE-694BDBAE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E907D-F6F3-4286-BECD-8AB0269B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C5487-5D2D-413A-B54B-9D0A3671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5EE9E-A588-4AAD-BE43-21FE2B4D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117AF-C4C4-4A5A-B55C-11A6A88C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994-2659-4FF6-B9F5-75360FDE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AD254-B361-4EFB-AD0B-0C9FFC38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8620A-718A-4C14-9E71-6D695100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68EC4-0730-40B1-9B4D-9BEFEC04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C2C56-F224-4660-B9DF-32D6E47A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4C7A8-B773-4443-8FA5-C9BB8F4B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9D93C-149E-4E1B-B93B-AD142A3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21153-3604-453F-ADB8-D799A4DB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08E5C-A95C-4770-9B47-1821A0AE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479D1-738B-4137-ADE9-2BD8493A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D2470-833B-4D72-8F5B-45FD407A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100-5DC8-4D44-B57B-D02F2B00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AA9FA-3431-43E8-8A3F-D6A2ADF0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A40EA-A742-4FFE-A829-E5BB07E6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2AA8B-A2E6-4CD1-B736-2714E858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3F6CA-7EAC-470D-AE5B-5196A1EA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5CA35-3640-4275-956E-198877FA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96C18-B24B-4B3A-A777-DDA82A57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92F9B-0430-414B-B653-3C4FA3C3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C6FB4-36D4-47E5-87A7-41224E1C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10AA3-8063-4413-87EF-D59EC3B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5FC5D-29E9-4A5C-A97A-2E95111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3AA8-442F-4A1F-8416-5EEADD4C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33B9B-D733-4DCD-8A22-AC3921CE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05EB5-42D1-47DD-858C-D7D68FB9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686BD-5512-48D1-926E-3E96685A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E32DA-6746-46F8-BB68-168AEAC6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AB13D-CE4E-45B8-8950-960B4FFC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DFB09-3EBF-45FA-9EDE-98E90753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BD2B7-C8DC-41D5-A562-C80E83AD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5F8AA-25C6-4CCC-86B7-6CA96275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B21AC-B5EC-4617-BF7E-F6634F5D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01DCE-BCD7-4C30-87CA-A739B1F9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2850-BB71-412E-B619-C1BD4A05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DBEF3-0681-4E0D-AAB2-4318A69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76CD9-C288-4FD6-A141-DDE50A5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4D160-E407-4855-8C6A-985C4E78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5F1C6-F3C9-4E94-BFEA-F3F98DAD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09797-5475-4683-9618-4870CAB1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754E1-856F-4CF9-B506-3C789EDD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0E283-5E34-4376-AFD7-A8E7F010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9FA12-ECA4-4030-90B7-BC954E15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F1A98-BF1C-4F96-821A-54911261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4EC41-3EF4-4E1E-80A6-CAAD5402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9811-0569-4BDE-98E3-3314BF9B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DEC40-904E-4619-AC74-45C7C497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52020-40E8-4BCF-AD8B-C6863275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F41AD-A68E-4E9F-AEF6-40B6BD9A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7F8A1-1ACC-454E-AC86-08ACB7D9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8A9C3-5E6B-4CF5-B6AF-53540A98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3E933-AB1D-4610-8ECF-81EE4F09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CF94B-0B36-4481-B323-C4FE1C70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3DE95-731C-45B1-B13A-F5C7F5CD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FB6CC-1BF7-42C3-A35D-308CD77C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6D96A-6516-451E-B6E4-7D739DE9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4BC-D6EF-472C-947E-2F60146A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5BC25-0F7B-4FBD-9161-ACA7289E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1E4B4-C92F-42F8-8199-74111CBA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21FBF-8CB2-474F-BDAF-3BC8C914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67988-368A-4DA4-8564-0CE5DB82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A70DE-DBAD-4C5D-97E6-7C14F27D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98FFC-E109-42E8-814D-11B25442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279EC-23D5-4F9A-BE26-002FD81D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CD862-B07E-4CDD-BB68-C77ED380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61265-B00F-4644-B541-03B911F9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C8401-F9CA-4BE1-87FD-2E1BF1D4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308B-CA43-4A2A-8874-7119FCDC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1CC29-5E12-44AA-B102-D531A9D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27AC8-18B1-489B-A73C-348B6230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0CFBB-6FB4-4BEA-A21E-CDD212AE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985C3-AA93-41AD-A5F0-9154FEEF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60F82-3BF0-405F-9C91-8D73AB39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CF39D-3A1B-453F-A5E8-04E3D7A9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C3D5F-CAB3-4471-92B7-7FC097C1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2F465-9790-40D2-BB79-81027F09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0B217-5A0F-4B16-8CDF-0C234E3C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6ED68-48E6-43D3-9622-2C331014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295E-FF4A-459A-B46B-96F7EB19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3FC15B-1576-4CAA-966D-9C25FC5D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FD36D-3162-4D46-889A-1142B185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8E52C-4106-4B01-A127-E9BC14FD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046FAA-6092-40C8-A0F3-70A14ED1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BE010-F9E9-4E2D-985A-5D04FC0F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9FADB-CA3D-4FE9-8B06-6EE8A39C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012DF-E0DD-4FD2-805D-6A6411AA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9968F-DD99-4DDE-8F2F-DB6B44AB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B8182-5BEC-49C1-8BE7-8D65525D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CF8CA-5590-4EB5-B6A0-563C9FDC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F39A-2D75-4435-8375-8E55378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EAB48-C984-4F52-A56E-8496F24C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DC693-0478-4196-A60F-BFE1BF81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851B1-F8B1-4018-8F4E-9D3FAF11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4C102-5276-44F2-8535-D7E8DF58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B614B-BBDB-4DC2-9CBD-1C3E044B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3F303A-7528-4811-A0E7-55230683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816E4-90AE-4613-9010-A1CADD0A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1166F-D1D6-4C2B-AF84-B3664ADD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35CBE-2817-4862-B0FC-6CC6C7BC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8EE59-FC90-4F30-AFD3-9F440288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BCA-380C-46ED-8448-2BACCDB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835F-DB49-407E-A270-0CBC56AA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9EBFE-441E-47E5-858D-0D242033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743A2-F4AB-4A6D-B21E-EB154B37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349A5-EF7F-43DC-94A5-71A0C07F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11DE0-CCFC-4BDC-8613-1329B322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2898F-82D4-4DBC-9E2F-0D97A5FB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CF1286-E351-478E-A9B9-F49E2FF5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AB870-28EA-46D8-9B70-60FEEDF3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CB1AD2-13B8-4D1B-B668-FE3FB608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19840-543B-489A-9C9F-7C984A77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3BACE2-A13D-4C2C-8F77-AF5E4D9F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5E6F-ADD6-4703-907E-F11C2A19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ACCF1-C2A2-4544-BDAB-820B2A40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2FBF40-2894-4206-A2A0-AEFA998D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CC52B-9AB4-4D62-9ED1-F7FC4030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0E334-3995-49DD-8385-71BAD75F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CEF58A-4C20-45EF-8567-16437B85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94227-C53A-49AA-89D0-0AAB73B9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B9F47-284D-477D-8A31-B949A77B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ACF1C-3BFD-4431-BBF6-D448777A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0EC567-EC6D-4360-A7FD-35D023F9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237406-86FD-4CAC-86A2-C109AA0F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8DBD-67F4-45EF-BD0B-D7D9D253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7ABDE4-4288-49A2-964A-49D5C7A0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399A69-77D5-4D53-A4E8-EF0F884E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A0227B-39F8-4657-8419-2DB9EB7D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172DB-79E9-49B2-84D8-9EA68A64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208938-A90D-4395-BF59-C38D5786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CDFC9-FB3A-4007-A921-F2CCE261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EBEFAF-C53D-4F88-A4B6-9566B5A5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B1B86B-5068-454E-80E0-0A1DC831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5852A5-2644-409B-A0F7-13459BA3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87CB6A-09F0-426D-9404-6D67D798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AACD-8817-49D4-8F1E-16D3C7C1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42D9D-D235-4B43-9988-EAE491C4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A8B58-1081-49C0-9846-A4CF6690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7E97A1-5474-427D-9004-6E5A433F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8366F-3CBB-4618-A5FA-6477F331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C97D4-0D7C-48BF-B4BE-57E3E639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F01A2D-60C6-4352-B324-A5776208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2FFA1-AF78-40A5-BBC0-FDB8CF1F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F387A-F6E4-45CB-80BA-824AB0D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5355BF-FFD9-4E34-9FAF-B8C4EED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86A92-BA25-401B-9498-96FF5FDF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3D22-32AA-40F3-B738-2BEA96F1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1A3CF-6F84-4718-9211-4CBE77A9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5625B-E9DE-4E30-A646-8E772D77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96188E-8032-4BAC-804F-53F0257B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73918F-9C05-4D69-989F-35A4FB7C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63C492-9AF6-460E-B419-8DFF06A9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44536-3DDE-4F17-800D-4900E68F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DB1198-2964-4D4A-BEA1-1F8388E4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DE4A04-1D9F-48B5-A224-91D9C9D0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0C795-B47F-4EEA-BC0C-E5CF4A8C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A3244-4209-4522-85C5-C28214A2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8878-CA6C-4BA2-84EE-F9BFA6B3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25BA1F-704F-4093-895D-85A74243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D12219-A8E2-4B17-A049-3CFD72E0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94C41-A106-4FE0-A1EC-C601474B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EB12E1-8B90-4EE6-B52D-7F007CCF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E323CF-FA74-47E1-90C8-73F55947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E91319-0210-420A-9CAC-2A2EE954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13F26A-75E6-4A79-9A00-2B8843E4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80B861-FE36-4D4A-A463-912E40CC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72B69B-D57E-4720-AEB8-DCB0E8CF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FC4B9D-9698-4A52-B5A7-6C504F1B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5DF3-580B-4DBF-B197-E774BC1F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42A72A-25B9-4CFA-B80B-ED66340D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184DAB-1F0A-4390-9CD0-21CECF23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279F72-D927-4DF1-A280-C074DDA1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A742CA-259A-4A1A-9FE3-D8667B0B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15497B-F211-4329-AD6D-BECB460D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D700A-6213-4D25-8E97-890F3CAC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DA430D-82A2-42C9-BE1B-93563A8D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E49B46-BAF8-476A-8E46-1DD304E9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789805-55E6-4155-A9EE-D1677540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58DB3A-D56E-4DD1-B752-967FBA07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8277-43A2-415F-85B3-ABC67642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CB2347-BF99-4806-BC7A-B7314AF9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492352-04E0-4545-B7E4-FBEA4B42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AECC47-8DEC-405A-943A-12C0A428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2D15B6-B597-44D0-97F3-935B838A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82DD2F-B6DA-4D8A-92DF-DD4F9616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9DE747-C8A9-40FA-A8DD-CCB5EC91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D6B885-3EE3-4B72-9625-DD152FFE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F406-A18A-4C12-9EC4-633A7CFF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8C70-1B30-43F0-B123-2285A603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67F-642A-4B38-9AB6-E3B69271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6C98-9997-4287-81E5-C67F9F9F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1DC8-0C43-4A90-82C7-9032F84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F531B-B830-4F4C-864F-A2ED2B76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0FD1-5B2D-46EA-88C9-517A4F53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F23E-D4E5-4C23-9F28-92E71652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F8AD-4393-4B4A-8A4D-5852749B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6918-9D36-41F3-954D-3587B48F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F48F-116B-4282-98FF-039EE2DE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5DD7-6598-46D2-9797-330C0E4D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FDDAC-4B60-4A79-81E4-0F996133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027-5D5A-4E55-9EE6-C90C4C59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F863-B854-49C1-A9A8-5522C406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7F0E-52C5-4172-B955-3E4DF35F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B7D78-D8DA-4371-A346-CBF21762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090A8-C127-470D-9F20-221BA00B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42164-6B2F-482E-8EA3-14E414CF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41C6-6DCA-465C-91E4-7A4016FE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6817-FCEA-457C-877A-33225153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48FED-CC98-4BDF-B6F9-96064B6D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2AEF3-40D1-429C-8DA8-E0CC2872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BC69D-F92E-43C8-B70E-9F4A07A1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079-93D1-46CC-A8C8-F426C3D7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9F60E-48D1-4464-84D4-4A4189BE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564F0-4836-478B-9E06-5ED6D1E0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3177-1EE2-4D2D-A358-A1FC85BB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883B8-DDE4-421D-ADC7-95A4A255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E2CCD-F381-41A9-8D4B-9CA6730A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CD2BB-39AA-4880-AD55-444F30F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3B64B-D05A-4CC5-BBCB-F4D7F5B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CCE9D-3B97-4F58-AC99-51FF7275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0237E-4575-4F09-B44F-0B53A9B0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4076B-338C-41A9-AA1A-E7336B31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208-4A7C-497E-99AE-1E1AB54F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2B6F-13E9-4CB2-BC0D-445BA386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34EFB-5AFF-4826-8138-E887B66B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E3D01-9363-4671-BE34-80FC12B3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3D9DF-B33E-43C3-BCE6-58CFF891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1C935-72CC-433E-9166-8E8C38C9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8482D-EE3C-4841-BB48-8CCA0B41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65DA2-9C41-4545-BC8F-1B7D56F2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6792D-9AD8-42AA-90AD-D858E1A8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E0FD2-B23A-42A4-AC9B-D520DCA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8706-AD2B-4213-954C-69FEE9B1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0D0-0BC4-4385-B501-F8E80144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3C6E3-A84E-41EE-9B4B-E8DF5C28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83BB2-BCBC-42AF-83C4-248AFA3D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A1BD4-722D-4E31-94DC-6BB63EE2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02B5-13DF-4738-9422-5F3F18F5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68292-B73D-41CC-9306-07261677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D1477-4079-478D-AE7A-3F4DAF46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5D4A7-47B4-4204-ACB9-80BA3A99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EF2BA-23A2-48F9-8C1C-DA320EA2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74AAC-0362-454C-831F-3A9E0883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238DB-BBE6-4FFD-863A-0FCC172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7E7-1001-4F2F-A921-413C37B3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5670A-860E-4770-9221-84530617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8C6E-E6FE-48C3-878A-E65CA972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275A4-8BF6-429A-A602-23500F20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995D9-BA74-46C5-834B-48A1F003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5AA10-A312-4CAE-9B61-B5CC58E9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C9D41-5DB1-42F5-857B-4F8B87E9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79332-3E88-44C6-9B7F-0844DE81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9729E-899C-4FF2-9B18-AE66339E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FA617-E1B3-4FCB-BE3C-67D9BCA1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3B79C-0460-49C4-9240-8F63A1C6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B73-DFBE-408E-B952-166ABC1A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687CC-DF5B-4DC1-910A-ECBA9852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F2737-684F-4E87-AB4D-E64D1764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8E4B8-C851-4F0D-B695-637037B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47D65-A42A-4E10-8E17-4DE2D5B2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F716D-B749-4DB1-9492-C1166B2B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C9FAD-929F-4CC1-B94A-30A3E648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55EF8-05B2-4452-AD65-6520A124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17E41-C8FB-4FEA-ABDB-897EB69D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0D515-B9A5-48E8-B334-75B1FED5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BD8C1-6744-48EB-BFD8-2C5D0610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C077-61F5-4862-A795-1C2ED0EC9B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72F7-0B98-4BC9-8675-B92312E17C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FCE0-8F3B-4CEB-8661-C8568126C9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1E02-F3DB-4D78-BDAF-8E4713DCA4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AD55-4C02-47CC-9985-9C46F1D8FE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8AF1-9D85-47AF-A8E2-6A2602FF6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6A99-68FD-4DCA-9903-9CFC44AB3A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567D-22AF-4CE9-8876-375DDB2DFA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03CB-F31D-4F66-A408-1D644009BC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896C-802E-4363-83E1-6EA07EF9B1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559-EC79-44D6-BE63-76AA72476F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AD3C-BA6F-4595-A144-8B6AB2A7B5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B119-2AA2-4554-AB80-D1ED31146E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90AE-1158-488E-957F-A926E1BA0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836-8C6E-43C1-B0C3-A73416F5E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82E0-988E-43E3-B5F7-5D860F0E7D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2B7A-9C4A-4AB0-94F8-F75D0E7134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35E1-C6D6-45EB-978A-5D7340B0B0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0EBC-FE1C-4C4A-AE5B-75232CAFDD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56AE-DA6B-453B-951A-9754343E4F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E7C7-6FB9-4807-B6D5-A73C10DE63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2C6F-5415-4F2C-8001-5F801A0F47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21C8-39C4-4D30-B612-BF125BBF81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824A-2F16-4648-8DE7-E731021B3D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EFDA-AAD3-48AA-8938-EEB0732CB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8ECB-3A85-4EA1-8EB9-F85F6540FA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FC9B-2F68-4492-B4CF-C7A4111448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D708-E4CC-4EAC-A780-0A08E3C77C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B2F9-7E5B-4B92-85E4-94FC49547C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72E1-41C1-4A5F-959C-28C978F628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9C50-2635-4E9D-982D-29C5AB25A7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390C-37D7-4D21-9079-9D2040FDD5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7AAB-7F20-4F42-89C1-0AD16A912C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8F6C-D7B7-4783-816B-F781E965D0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4C3D-C2CA-4E71-9510-4613209097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AB2E-B7A9-4BA5-A9D6-2AA82367AE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9DF4-3EBE-42E3-A1C6-AF8F3C8876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495C-255E-4207-AAEC-36626DBA5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92AC-7CA6-40B4-8461-FD49AC90E3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238A-0FF1-4044-A22E-14E2791393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7DAC-CD1C-41E6-8A71-B7CCD07427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018C-12D8-4752-883C-33F71526C5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30320" y="2971800"/>
            <a:ext cx="888336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446040"/>
            <a:ext cx="8743680" cy="622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7812000" y="148428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403280" y="22766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443640" y="30402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564000" y="38606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8244000" y="465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1547640" y="5430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5724360" y="5445000"/>
            <a:ext cx="11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542880" y="1395360"/>
            <a:ext cx="8058240" cy="40672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3492360" y="236376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003640" y="3141720"/>
            <a:ext cx="136692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3419640" y="3933720"/>
            <a:ext cx="13665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1692360" y="4724280"/>
            <a:ext cx="1366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95200" y="1014480"/>
            <a:ext cx="8553600" cy="54291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836720" y="3573360"/>
            <a:ext cx="2448000" cy="2880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3564000" y="2781360"/>
            <a:ext cx="180000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5940360" y="3587760"/>
            <a:ext cx="2952720" cy="28796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667640" y="2795760"/>
            <a:ext cx="129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600120" y="996840"/>
            <a:ext cx="7943760" cy="5305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2924280"/>
            <a:ext cx="2448000" cy="30258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3218040" y="1930320"/>
            <a:ext cx="14983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5435640" y="278136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105680" y="1887480"/>
            <a:ext cx="14986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00160" y="873000"/>
            <a:ext cx="8743680" cy="5781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4211640" y="3357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65164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733752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5651640" y="4221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7337520" y="4221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8"/>
          <a:stretch/>
        </p:blipFill>
        <p:spPr>
          <a:xfrm>
            <a:off x="4211640" y="5041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9"/>
          <a:stretch/>
        </p:blipFill>
        <p:spPr>
          <a:xfrm>
            <a:off x="5651640" y="50418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0"/>
          <a:stretch/>
        </p:blipFill>
        <p:spPr>
          <a:xfrm>
            <a:off x="7337520" y="50418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1"/>
          <a:stretch/>
        </p:blipFill>
        <p:spPr>
          <a:xfrm>
            <a:off x="4255920" y="5891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2"/>
          <a:stretch/>
        </p:blipFill>
        <p:spPr>
          <a:xfrm>
            <a:off x="5695920" y="58910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3"/>
          <a:stretch/>
        </p:blipFill>
        <p:spPr>
          <a:xfrm>
            <a:off x="7381800" y="589104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38240" y="898560"/>
            <a:ext cx="8867520" cy="55911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71640" y="269388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900000" y="4883040"/>
            <a:ext cx="39610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257040" y="1143000"/>
            <a:ext cx="8629920" cy="4572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971640" y="4307040"/>
            <a:ext cx="374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971640" y="5084640"/>
            <a:ext cx="4895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66760" y="1376280"/>
            <a:ext cx="8610480" cy="41054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367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8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